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F942-4AC7-4170-9262-923DCCB36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D120-89AE-4881-9FB8-FFC3E6248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E61D-16C3-45C7-A934-A4AF13A7F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1CA3-1A08-4820-A12F-DE537A442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50B3-C418-47B1-8E07-67CE09878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BB79-E152-40EF-A012-6ECD4189A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EA06-E53F-4BBA-A34A-52B43FD03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69CF-767C-49C8-ACB4-7984F44F1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7D1B-1C16-404A-87F2-6E06B559F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0ABD-F5CE-4072-A845-26BA6E67B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577A-0F1F-48FF-B3B6-BF46A394D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4A36-5D4F-4A4B-ABA9-E01CE91FC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140D4-BEF0-4622-AB5D-AA04D51B48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orwin.ca/gridlock/" TargetMode="External"/><Relationship Id="rId3" Type="http://schemas.openxmlformats.org/officeDocument/2006/relationships/hyperlink" Target="http://www.corwin.ca/gridlock/" TargetMode="External"/><Relationship Id="rId4" Type="http://schemas.openxmlformats.org/officeDocument/2006/relationships/hyperlink" Target="http://www.corwin.ca/gridlock/" TargetMode="External"/><Relationship Id="rId5" Type="http://schemas.openxmlformats.org/officeDocument/2006/relationships/hyperlink" Target="http://www.corwin.ca/gridlock/" TargetMode="External"/><Relationship Id="rId6" Type="http://schemas.openxmlformats.org/officeDocument/2006/relationships/hyperlink" Target="http://www.corwin.ca/gridlock/" TargetMode="External"/><Relationship Id="rId7" Type="http://schemas.openxmlformats.org/officeDocument/2006/relationships/hyperlink" Target="http://www.corwin.ca/gridlock/" TargetMode="External"/><Relationship Id="rId8" Type="http://schemas.openxmlformats.org/officeDocument/2006/relationships/hyperlink" Target="http://nlvm.usu.edu/en/nav/frames_asid_165_g_1_t_3.html?open=instructions&amp;from=category_g_1_t_3.html" TargetMode="External"/><Relationship Id="rId9" Type="http://schemas.openxmlformats.org/officeDocument/2006/relationships/hyperlink" Target="http://nlvm.usu.edu/en/nav/frames_asid_165_g_1_t_3.html?open=instructions&amp;from=category_g_1_t_3.html" TargetMode="External"/><Relationship Id="rId10" Type="http://schemas.openxmlformats.org/officeDocument/2006/relationships/hyperlink" Target="http://nlvm.usu.edu/en/nav/frames_asid_165_g_1_t_3.html?open=instructions&amp;from=category_g_1_t_3.html" TargetMode="External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Juice ITC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Juice ITC"/>
              </a:rPr>
              <a:t>Math cl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Juice ITC"/>
              </a:rPr>
              <a:t>Teacher: Mr. Ch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Juice ITC"/>
              </a:rPr>
              <a:t>What is Congrue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Juice ITC"/>
              </a:rPr>
              <a:t>The relationship between two geometric shapes having the same size and shape (congruent shapes) (this is smart tal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Juice ITC"/>
              </a:rPr>
              <a:t>My definition: A shape that is the same size and sh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5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5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5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5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Juice ITC"/>
              </a:rPr>
              <a:t>What does it mean for polygons to be congru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Juice ITC"/>
              </a:rPr>
              <a:t>Polygons are congruent if they are equal in all respect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Juice ITC"/>
              </a:rPr>
              <a:t>Same number of sid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Juice ITC"/>
              </a:rPr>
              <a:t>All corresponding sides are the same leng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Juice ITC"/>
              </a:rPr>
              <a:t>All corresponding interior angles are the same mea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Juice ITC"/>
              </a:rPr>
              <a:t>My definition: Basically the polygon need to be the same all o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Juice ITC"/>
              </a:rPr>
              <a:t>Five shortcuts for determining triangles are congru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Juice ITC"/>
              </a:rPr>
              <a:t>SSS Postulate   If 3 sides of one triangle are congruent to 3 sides of another triangle, then the triangles are congru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Juice ITC"/>
              </a:rPr>
              <a:t>My definition:  if all 3 sides on both triangles are the same then the triangles is the s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Juice ITC"/>
              </a:rPr>
              <a:t>SAS Postulate   If 2 sides and the included angle of a triangle are congruent to 2 sides and the included angle of another triangle, then the triangles are congru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Juice ITC"/>
              </a:rPr>
              <a:t>My definition: if 2 sides and the angle are the same in both triangles then they are the s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Juice ITC"/>
              </a:rPr>
              <a:t>ASA Postulate   If 2 angles and the included side of a triangle are congruent to two angles and the included side of another triangle, then the triangles are congru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Juice ITC"/>
              </a:rPr>
              <a:t>My definition: if 2 angles and the side are the same in both triangles then they are the s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Juice ITC"/>
              </a:rPr>
              <a:t>AAS Theorem   In a triangle, if 2 angles and a side opposite one of them are congruent to the corresponding parts of another triangle, then the triangles are congru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Juice ITC"/>
              </a:rPr>
              <a:t>My definition: idk how to explain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72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98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98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98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98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898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98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98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98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Juice ITC"/>
              </a:rPr>
              <a:t>(SSS) Side Side S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Juice ITC"/>
              </a:rPr>
              <a:t>SSS is when two triangles have the same length for all their side the triangles are  congru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Juice ITC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09480" y="3200400"/>
            <a:ext cx="2857680" cy="28576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Juice ITC"/>
              </a:rPr>
              <a:t>Test (300p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Juice IT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Juice ITC"/>
              </a:rPr>
              <a:t>1+1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Juice IT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Juice ITC"/>
              </a:rPr>
              <a:t>Draw a triangle with sss theor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Juice IT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Juice ITC"/>
              </a:rPr>
              <a:t>2+2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Juice IT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Juice ITC"/>
              </a:rPr>
              <a:t>What is congruenc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Juice IT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Juice ITC"/>
              </a:rPr>
              <a:t>What does it mean for polygons to be congru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Juice ITC"/>
              </a:rPr>
              <a:t>Bonus: What is my name? (600p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3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Juice ITC"/>
              </a:rPr>
              <a:t>Homework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Juice ITC"/>
              </a:rPr>
              <a:t>Draw a circle and color it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Juice ITC"/>
              </a:rPr>
              <a:t>Go home and play on the compu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Juice ITC"/>
              </a:rPr>
              <a:t>E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Juice ITC"/>
              </a:rPr>
              <a:t>Draw a triangle too and color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43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Juice ITC"/>
              </a:rPr>
              <a:t>Math ga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Juice ITC"/>
                <a:hlinkClick r:id="rId2"/>
              </a:rPr>
              <a:t>sum shape game thought I it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Juice ITC"/>
                <a:hlinkClick r:id="rId3"/>
              </a:rPr>
              <a:t>kinda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Juice ITC"/>
                <a:hlinkClick r:id="rId4"/>
              </a:rPr>
              <a:t> fun in a way it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Juice ITC"/>
                <a:hlinkClick r:id="rId5"/>
              </a:rPr>
              <a:t>kinda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Juice ITC"/>
                <a:hlinkClick r:id="rId6"/>
              </a:rPr>
              <a:t> fun in a way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Juice ITC"/>
                <a:hlinkClick r:id="rId7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Juice ITC"/>
                <a:hlinkClick r:id="rId8"/>
              </a:rPr>
              <a:t>Sum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Juice ITC"/>
                <a:hlinkClick r:id="rId9"/>
              </a:rPr>
              <a:t>otha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Juice ITC"/>
                <a:hlinkClick r:id="rId10"/>
              </a:rPr>
              <a:t>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16:15:18Z</dcterms:created>
  <dc:creator>301894</dc:creator>
  <dc:description/>
  <dc:language>en-US</dc:language>
  <cp:lastModifiedBy>301894</cp:lastModifiedBy>
  <dcterms:modified xsi:type="dcterms:W3CDTF">2008-05-02T16:42:17Z</dcterms:modified>
  <cp:revision>5</cp:revision>
  <dc:subject/>
  <dc:title>Real talk dis iz da funniest math class</dc:title>
</cp:coreProperties>
</file>